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8F0D-49D0-4664-8469-B7992EE8E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DA3A-F2FF-4E1A-ABD4-A6247930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3F34-250A-4B14-A4AF-E176AFF3F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009D-6A8D-42F1-8CDB-08B259332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8876-7A15-4A2F-A06C-7237D531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09ED-5391-4BAE-A9E7-52FDC89F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0C1C-F949-4A02-9B87-889CE390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3114-563D-448D-9418-147D8739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308E-4BA5-4E31-A3C2-9B5C6AA8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8057-8877-4082-91A2-24F78658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C704-FB9E-4F7B-B0F7-B07D362B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D9E6-DFB8-4D7D-9BEA-3E04655E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D5B8-1B25-4CCB-B68D-223E908AE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zus.askkids.com/r?t=a&amp;d=us&amp;s=k&amp;c=akdi&amp;ti=1&amp;ai=30751&amp;l=dir&amp;o=0&amp;sv=0a5c423d&amp;ip=417d3fb1&amp;u=http://www.sherylfranklin.com/holidays/images/liberty_bell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hyperlink" Target="http://wzus.askkids.com/r?t=a&amp;d=us&amp;s=k&amp;c=akdi&amp;ti=1&amp;ai=30751&amp;l=dir&amp;o=0&amp;sv=0a5c4243&amp;ip=417d3fb1&amp;u=http://www.cbc.ca/quirks/archives/02-03/images/Trilobite.jpg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By: Chandl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Mary R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066680" y="1219320"/>
            <a:ext cx="7239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676520" y="152388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Arial"/>
              </a:rPr>
              <a:t>Pennsylvani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liberty_be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8600"/>
            <a:ext cx="1400040" cy="1676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MCj04367600000[1]"/>
          <p:cNvPicPr/>
          <p:nvPr/>
        </p:nvPicPr>
        <p:blipFill>
          <a:blip r:embed="rId3"/>
          <a:stretch/>
        </p:blipFill>
        <p:spPr>
          <a:xfrm>
            <a:off x="6553080" y="457200"/>
            <a:ext cx="213696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Harrisbu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Is located in Ridge and Valley  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Population is about 50,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Is known for steel and farm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A landmark in Harrisburg is the Ea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Harrisburg Cemet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Settled by William Harr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MCj04083160000[1]"/>
          <p:cNvPicPr/>
          <p:nvPr/>
        </p:nvPicPr>
        <p:blipFill>
          <a:blip r:embed="rId1"/>
          <a:stretch/>
        </p:blipFill>
        <p:spPr>
          <a:xfrm>
            <a:off x="6324480" y="4876920"/>
            <a:ext cx="1955880" cy="128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Pittsbur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It is located in Allegheney Plateau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Population about 325,33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It is known for it</a:t>
            </a:r>
            <a:r>
              <a:rPr b="1" lang="ja-JP" sz="3200" spc="-1" strike="noStrike">
                <a:solidFill>
                  <a:srgbClr val="ff66cc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s ste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Allegheney  Cemetery was established in the middle of the 19</a:t>
            </a:r>
            <a:r>
              <a:rPr b="1" lang="en-US" sz="3200" spc="-1" strike="noStrike" baseline="30000">
                <a:solidFill>
                  <a:srgbClr val="ff66cc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 century</a:t>
            </a:r>
            <a:r>
              <a:rPr b="0" lang="en-US" sz="3200" spc="-1" strike="noStrike">
                <a:solidFill>
                  <a:srgbClr val="ff66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MCj02025300000[1]"/>
          <p:cNvPicPr/>
          <p:nvPr/>
        </p:nvPicPr>
        <p:blipFill>
          <a:blip r:embed="rId1"/>
          <a:stretch/>
        </p:blipFill>
        <p:spPr>
          <a:xfrm rot="474600">
            <a:off x="1981080" y="4876560"/>
            <a:ext cx="4343400" cy="17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State Symb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-360" y="3657600"/>
            <a:ext cx="282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Flower: Mountain Laur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352680" y="4724280"/>
            <a:ext cx="272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Tree: Eastern Hem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380880" y="6019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Beverage: mi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MCj01511550000[1]"/>
          <p:cNvPicPr/>
          <p:nvPr/>
        </p:nvPicPr>
        <p:blipFill>
          <a:blip r:embed="rId1"/>
          <a:stretch/>
        </p:blipFill>
        <p:spPr>
          <a:xfrm>
            <a:off x="533520" y="1752480"/>
            <a:ext cx="1655640" cy="1800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ts?t=6760646134236583358&amp;pid=26&amp;ppid=0"/>
          <p:cNvPicPr/>
          <p:nvPr/>
        </p:nvPicPr>
        <p:blipFill>
          <a:blip r:embed="rId2"/>
          <a:stretch/>
        </p:blipFill>
        <p:spPr>
          <a:xfrm>
            <a:off x="3962520" y="2362320"/>
            <a:ext cx="1447560" cy="2286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MPj03143150000[1]"/>
          <p:cNvPicPr/>
          <p:nvPr/>
        </p:nvPicPr>
        <p:blipFill>
          <a:blip r:embed="rId3"/>
          <a:stretch/>
        </p:blipFill>
        <p:spPr>
          <a:xfrm>
            <a:off x="762120" y="4114800"/>
            <a:ext cx="898560" cy="19051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2"/>
          <p:cNvSpPr/>
          <p:nvPr/>
        </p:nvSpPr>
        <p:spPr>
          <a:xfrm>
            <a:off x="6934320" y="24382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705720" y="42670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Dog: Great D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7010280" y="4267080"/>
            <a:ext cx="1752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6" descr="r?t=a&amp;d=us&amp;s=k&amp;c=akdi&amp;ti=1&amp;ai=30752&amp;l=dir&amp;o=0&amp;sv=0a5c424f&amp;ip=417d3fb1&amp;u=http%3A%2F%2Fwww"/>
          <p:cNvPicPr/>
          <p:nvPr/>
        </p:nvPicPr>
        <p:blipFill>
          <a:blip r:embed="rId4"/>
          <a:stretch/>
        </p:blipFill>
        <p:spPr>
          <a:xfrm>
            <a:off x="6934320" y="1676520"/>
            <a:ext cx="1523880" cy="25430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7"/>
          <p:cNvSpPr/>
          <p:nvPr/>
        </p:nvSpPr>
        <p:spPr>
          <a:xfrm>
            <a:off x="6172200" y="55627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6629400" y="6095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Fossil: Trilob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0" descr="Trilobit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781680" y="4876920"/>
            <a:ext cx="160020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Historical Monument: Madonna of the Tr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Located in 12 states along National Old trails High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Important dates to Monument are 1928 and 1929 when dedicated to s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Is important to Pennsylvania</a:t>
            </a:r>
            <a:r>
              <a:rPr b="1" lang="ja-JP" sz="3200" spc="-1" strike="noStrike">
                <a:solidFill>
                  <a:srgbClr val="ff66cc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s history because it honors pioneer wo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Inscription on the monument is, </a:t>
            </a:r>
            <a:r>
              <a:rPr b="1" lang="ja-JP" sz="3200" spc="-1" strike="noStrike">
                <a:solidFill>
                  <a:srgbClr val="ff66cc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N.S.D.A.R. Memorial to the Pioneer Mothers of the covered wagon days.</a:t>
            </a:r>
            <a:r>
              <a:rPr b="1" lang="ja-JP" sz="3200" spc="-1" strike="noStrike">
                <a:solidFill>
                  <a:srgbClr val="ff66cc"/>
                </a:solidFill>
                <a:latin typeface="Arial"/>
              </a:rPr>
              <a:t>”</a:t>
            </a: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ts?t=12865040485746677830&amp;pid=26&amp;ppid=0"/>
          <p:cNvPicPr/>
          <p:nvPr/>
        </p:nvPicPr>
        <p:blipFill>
          <a:blip r:embed="rId1"/>
          <a:stretch/>
        </p:blipFill>
        <p:spPr>
          <a:xfrm>
            <a:off x="8131320" y="5105520"/>
            <a:ext cx="10126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Martha Grah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Born on May 11, 189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Was born in Pittsbur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Was a famous choreographer and danc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Died April 1, 199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graham.jpg"/>
          <p:cNvPicPr/>
          <p:nvPr/>
        </p:nvPicPr>
        <p:blipFill>
          <a:blip r:embed="rId1"/>
          <a:stretch/>
        </p:blipFill>
        <p:spPr>
          <a:xfrm>
            <a:off x="5715000" y="3886200"/>
            <a:ext cx="23162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Andrew Wye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Born on July 12,191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Was born in Chaddsford, P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Was a painter of people and landsca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Had two sons, Ja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and Nicho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WyethChristinasWorld48.jpg"/>
          <p:cNvPicPr/>
          <p:nvPr/>
        </p:nvPicPr>
        <p:blipFill>
          <a:blip r:embed="rId1"/>
          <a:stretch/>
        </p:blipFill>
        <p:spPr>
          <a:xfrm>
            <a:off x="2133720" y="4648320"/>
            <a:ext cx="358128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13:58:20Z</dcterms:created>
  <dc:creator>vmals</dc:creator>
  <dc:description/>
  <dc:language>en-US</dc:language>
  <cp:lastModifiedBy>Melissa Dow</cp:lastModifiedBy>
  <dcterms:modified xsi:type="dcterms:W3CDTF">2012-01-18T23:10:31Z</dcterms:modified>
  <cp:revision>8</cp:revision>
  <dc:subject/>
  <dc:title> </dc:title>
</cp:coreProperties>
</file>